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8.png" ContentType="image/png"/>
  <Override PartName="/ppt/media/image25.wmf" ContentType="image/x-wmf"/>
  <Override PartName="/ppt/media/image24.wmf" ContentType="image/x-wmf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3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23.png" ContentType="image/png"/>
  <Override PartName="/ppt/media/image26.wmf" ContentType="image/x-wmf"/>
  <Override PartName="/ppt/media/arrow.wav" ContentType="audio/x-wav"/>
  <Override PartName="/ppt/media/image35.png" ContentType="image/png"/>
  <Override PartName="/ppt/media/image29.wmf" ContentType="image/x-wmf"/>
  <Override PartName="/ppt/media/image11.png" ContentType="image/png"/>
  <Override PartName="/ppt/media/image31.jpeg" ContentType="image/jpeg"/>
  <Override PartName="/ppt/media/image41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.wmf" ContentType="image/x-wmf"/>
  <Override PartName="/ppt/media/image37.png" ContentType="image/png"/>
  <Override PartName="/ppt/media/image7.png" ContentType="image/png"/>
  <Override PartName="/ppt/media/image39.png" ContentType="image/png"/>
  <Override PartName="/ppt/media/image22.jpeg" ContentType="image/jpeg"/>
  <Override PartName="/ppt/media/image9.png" ContentType="image/png"/>
  <Override PartName="/ppt/media/image36.png" ContentType="image/png"/>
  <Override PartName="/ppt/media/image6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05C7-242E-415B-B945-8EF088D77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6F4B-30F1-45BB-B807-062AEF3B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3157-E5A8-4220-8722-03C6C31BF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BBC3-8378-4F24-A65F-75172B0D2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624DF-F35D-42BE-B166-9FB5D5338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C4382-D859-4F39-A262-25922BAC3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14C4A-C8F8-4661-8A35-A2143D87D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213B-D11E-4E4D-AA1E-5D7A06248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8915-8AA2-42FB-AE2C-733C6FAC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5C8D-5BA7-45DF-9E36-EA1773C32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19040-1A6E-4EC7-9421-C3713AFEE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E2F-DF32-4A69-826B-50C630B82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DC16-690A-4B17-8158-6F1B5CB5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A6C4-CE4C-4F11-9215-C1379343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B1F31-C70A-4324-AAA9-16CFDE9C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B0254-8064-4831-8252-815E95CFB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ECFA-33B9-4BB8-B1EB-03B965657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175D25-B41F-40C2-B5D0-30D676DA0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38F6-C562-4506-A7D0-2F0DA7E6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CDC01-8639-403A-A8E8-F1A77D6FE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6CE0F-C745-49E3-871B-206ED9F9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F6D65-E75C-49AD-A830-B778A2154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D99F-2AFA-4BE6-9788-351524610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47570-EF60-417B-81BC-2CDBA76E1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997F7-9B3A-4377-A446-C49E297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A4CBC4-0A52-4418-80E9-1CCD946B1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33608-719B-4DF3-8AAA-530C87CC8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3EC1A-6A1C-4C00-AC8B-54502965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E4927-1224-462E-A388-311BDDE77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A4CFA-D975-404D-B666-9A5939EA8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2AFC7-4E1B-4EF5-8BCB-94893AFF2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817C86-6066-46EE-9073-3EA1CCAE4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0FB6DE-6E61-41C3-B523-CA5888C9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2FDC-6018-4688-AFC7-BA7EFF366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8F0B55-8C72-4ED1-938F-A70C3F751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92192-1D36-4915-A6E1-DA299611A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70273-8CE2-4E94-93A2-AB2F5799E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62A11-327D-41B6-8AD0-78469B8D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3CEDCC-E483-4C1A-89F0-7058BA9D7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1FD40-EEF0-41C6-B2D5-5F30AA70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C48D8-4566-4C2A-878D-8C81C04DF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7AC8F-2649-40DB-BCD3-D2366F8A2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B1FAA-9622-4C43-9D61-C2B56221B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DFE9F-5276-4F4E-8A4E-6787C9EE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B43-AC50-4E51-9BC9-9AE1B699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4CF7-E7B4-471D-8886-5214F0FD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CEBB0-B0A3-459B-A044-9090C061A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7AAC-00F0-4A92-ABE7-AC3483E7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099FC4-CBB7-4C77-9791-35ED015F0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662CEE-BDA9-4163-A5DC-7C496105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A4D17A-35B2-48A6-9703-AD85E3012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1B9BE-1C0A-4F07-A993-3E303BA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89FFD-5D93-44FC-91D8-F07618309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941B51-7DE7-4C16-94E4-ED384BBCE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3E5B7D-90AC-4558-B26C-9F389F7D9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CFB9-1561-4B74-A986-0B382EB4E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DBF830-B40C-4F6A-AB29-EC67528B4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3EDE17-880B-4EE0-A016-F69D103A9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428750-6221-4B93-85E5-ABEE0EF77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376ED4-5504-4B7B-9E36-B8AF7DA0C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D7C5B1-5CC8-4C5E-A3F9-6894EA88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C629D-382D-445E-A788-08EE2056C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7245-4989-4524-98ED-252975DD9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F98E1E-250B-41C2-B37F-412D84A70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FE220-E81D-45AF-9EFD-3F3D34D6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738C6-340E-4F93-9B80-645CED85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007E-20C6-45DE-B8BB-354AF372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1CF87-C50A-427F-B6AF-79F94AEF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CFD33-DE4C-4060-B446-A65E9204C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EFC30-1220-4BF8-88FB-2F7D83DD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2FF3FF-5548-4B12-B144-C6783AFB7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F883D-CE9B-4818-9437-4B6F3C2E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0E81BD-1941-40D5-AE05-4EE8E5D6F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DA33C-AF6B-4594-820B-920EFB45A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B23B2E-CED1-47A7-BE89-2D228E67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BEFC2-B233-4854-9E4D-CAB565ED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2EA56-A61A-43C5-81D0-4763A23F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5E42E-2D4E-4BE0-8BF9-5CF259C9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C45C59-D83F-484A-A59B-F548C77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A8386D-1B0B-4212-9639-52B7476B9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F1904-AA0D-4262-B54A-6F330B652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6838A-B3FF-4204-93F9-8D12F25A8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A9C6E0-38D2-49FD-9C0E-F08DCE409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E1E9-A3A8-41FD-9F24-7A929F548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798B-0CBE-4149-AA73-AECEBD43FBD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729E9-3671-4B07-A6D0-3A0649015867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0D151-3E1A-44CE-841C-53BEB2D1B791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1B371-D491-4603-9D50-F5D71027B1C8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DF4D-C905-46C5-8FA9-731E5031A3A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45D1-5AA2-463D-8023-FDDC1880E79A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F9CB9-1453-46C4-9B07-175478CA045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ile:///PBSI%20Student%20Teacher%20Survey_V2.ppt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hyperlink" Target="file:///../Calendars/PBSI%20Training%20Calendar%202008_2009.doc" TargetMode="External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audio" Target="../media/arrow.wav"/><Relationship Id="rId7" Type="http://schemas.openxmlformats.org/officeDocument/2006/relationships/audio" Target="../media/arrow.wav"/><Relationship Id="rId8" Type="http://schemas.openxmlformats.org/officeDocument/2006/relationships/audio" Target="../media/arrow.wav"/><Relationship Id="rId9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304920" y="5168880"/>
            <a:ext cx="8601120" cy="168912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09120" y="837720"/>
            <a:ext cx="8077320" cy="310068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The Meadows Bee Colony</a:t>
            </a:r>
            <a:endParaRPr b="0" lang="en-US" sz="54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600" spc="-1" strike="noStrike">
                <a:solidFill>
                  <a:srgbClr val="ffffff"/>
                </a:solidFill>
                <a:latin typeface="Corbel"/>
              </a:rPr>
              <a:t>	</a:t>
            </a:r>
            <a:r>
              <a:rPr b="0" lang="en-US" sz="4600" spc="-1" strike="noStrike">
                <a:solidFill>
                  <a:srgbClr val="ffffff"/>
                </a:solidFill>
                <a:latin typeface="Corbel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5" descr="C:\Documents and Settings\tmonk\Local Settings\Temporary Internet Files\Content.IE5\0TJEA3ZB\MCj03538580000[1].wmf"/>
          <p:cNvPicPr/>
          <p:nvPr/>
        </p:nvPicPr>
        <p:blipFill>
          <a:blip r:embed="rId2"/>
          <a:stretch/>
        </p:blipFill>
        <p:spPr>
          <a:xfrm>
            <a:off x="533520" y="1905120"/>
            <a:ext cx="792468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ased capacity of staff as trainers and/or lead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monstrations in classrooms that reflect best practices to engage all student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creased strategies, tools, skills, and processes for handling individual students with severe and/or chronic misbehaviors or complex need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increase in attendanc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32" name="Content Placeholder 5" descr=""/>
          <p:cNvPicPr/>
          <p:nvPr/>
        </p:nvPicPr>
        <p:blipFill>
          <a:blip r:embed="rId2"/>
          <a:stretch/>
        </p:blipFill>
        <p:spPr>
          <a:xfrm>
            <a:off x="450720" y="1768320"/>
            <a:ext cx="8242560" cy="463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 Survey are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eelings about Adults at The Meadow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now how to beha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afe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cher Survey are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dministration Concer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ach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2008 – 2009 dat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rbel"/>
              </a:rPr>
              <a:t>Observations were conducted within our common areas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Hallway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Cafeteria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Bathroo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43040" indent="-285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567720"/>
                <a:tab algn="l" pos="10023480"/>
                <a:tab algn="l" pos="10479240"/>
                <a:tab algn="l" pos="1093464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Dismiss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7" descr="C:\Users\kbrad1963\AppData\Local\Microsoft\Windows\Temporary Internet Files\Content.IE5\NDCMTWRZ\MPj04393430000[1].jpg"/>
          <p:cNvPicPr/>
          <p:nvPr/>
        </p:nvPicPr>
        <p:blipFill>
          <a:blip r:embed="rId2"/>
          <a:stretch/>
        </p:blipFill>
        <p:spPr>
          <a:xfrm>
            <a:off x="4267080" y="2362320"/>
            <a:ext cx="4160880" cy="4160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ultiple observ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ata compiled and review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lans made for intervention and chan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4" descr="C:\Users\kbrad1963\AppData\Local\Microsoft\Windows\Temporary Internet Files\Content.IE5\40SLSYK2\MCj04103790000[1].wmf"/>
          <p:cNvPicPr/>
          <p:nvPr/>
        </p:nvPicPr>
        <p:blipFill>
          <a:blip r:embed="rId2"/>
          <a:stretch/>
        </p:blipFill>
        <p:spPr>
          <a:xfrm>
            <a:off x="3352680" y="3429000"/>
            <a:ext cx="2133720" cy="257184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5" descr="C:\Users\kbrad1963\AppData\Local\Microsoft\Windows\Temporary Internet Files\Content.IE5\YBNG5UFL\MCj04369960000[1].wmf"/>
          <p:cNvPicPr/>
          <p:nvPr/>
        </p:nvPicPr>
        <p:blipFill>
          <a:blip r:embed="rId3"/>
          <a:stretch/>
        </p:blipFill>
        <p:spPr>
          <a:xfrm>
            <a:off x="6095880" y="3809880"/>
            <a:ext cx="2724120" cy="2729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6" descr="C:\Users\kbrad1963\AppData\Local\Microsoft\Windows\Temporary Internet Files\Content.IE5\V8NATY82\MCj01498500000[1].wmf"/>
          <p:cNvPicPr/>
          <p:nvPr/>
        </p:nvPicPr>
        <p:blipFill>
          <a:blip r:embed="rId4"/>
          <a:stretch/>
        </p:blipFill>
        <p:spPr>
          <a:xfrm>
            <a:off x="838080" y="3429000"/>
            <a:ext cx="1782720" cy="16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of observation were not the sa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ck of effective communication between faculty and staff concerning expect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reas of school required more active  monitor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fety issues needed to be address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ack of respect for property and other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Noise level inappropri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s were being willfully disobedi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380880" y="1828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earning Object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ll” Pha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how” Pha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” Pha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llow-up Less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2008-2009 Calend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7" name="Picture 5" descr="C:\Program Files\Microsoft Office\MEDIA\CAGCAT10\j0301252.wmf"/>
          <p:cNvPicPr/>
          <p:nvPr/>
        </p:nvPicPr>
        <p:blipFill>
          <a:blip r:embed="rId3"/>
          <a:stretch/>
        </p:blipFill>
        <p:spPr>
          <a:xfrm>
            <a:off x="4191120" y="2209680"/>
            <a:ext cx="4573440" cy="39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Three B’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e Respectfu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e Responsibl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e Read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7" descr="C:\Users\kbrad1963\AppData\Local\Microsoft\Windows\Temporary Internet Files\Content.IE5\V8NATY82\MPj04331790000[1].jpg"/>
          <p:cNvPicPr/>
          <p:nvPr/>
        </p:nvPicPr>
        <p:blipFill>
          <a:blip r:embed="rId2"/>
          <a:stretch/>
        </p:blipFill>
        <p:spPr>
          <a:xfrm>
            <a:off x="4038480" y="2362320"/>
            <a:ext cx="4876920" cy="3733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Goal: Students at The Meadows Elementary will understand the meaning of the phrase “Bee Line Formation”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tudents will demonstrate an appropriate response to the phras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Bee Line Formation” when standing means: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traight  line (one behind the other, or shoulder to shoulder)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Facing Forward, with eyes looking straight ahead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ands are behind your back and hand in hand at your wais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Level Zero, mouths are closed and sil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Keep hands, feet, and other  items to yourself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219240" y="-6480"/>
            <a:ext cx="8474040" cy="14274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000000"/>
                </a:solidFill>
                <a:uFillTx/>
                <a:latin typeface="Corbel"/>
              </a:rPr>
              <a:t>The Bee Leaders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dina Arpela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harde Coo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imberly Fis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Kelvin Bradfo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odney Jon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Virlean Kirkl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lyson Lew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nda Marshal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eresa Mon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ra Ramirez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ee Keepers – Faculty and Staff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8" name="Picture 2" descr="C:\Documents and Settings\tmonk\Local Settings\Temporary Internet Files\Content.IE5\2OIH3378\MCj02407790000[1].wmf"/>
          <p:cNvPicPr/>
          <p:nvPr/>
        </p:nvPicPr>
        <p:blipFill>
          <a:blip r:embed="rId2"/>
          <a:stretch/>
        </p:blipFill>
        <p:spPr>
          <a:xfrm>
            <a:off x="533520" y="2057400"/>
            <a:ext cx="2590560" cy="419112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C:\Documents and Settings\tmonk\Local Settings\Temporary Internet Files\Content.IE5\2OIH3378\MCj02407790000[1].wmf"/>
          <p:cNvPicPr/>
          <p:nvPr/>
        </p:nvPicPr>
        <p:blipFill>
          <a:blip r:embed="rId3"/>
          <a:stretch/>
        </p:blipFill>
        <p:spPr>
          <a:xfrm flipH="1">
            <a:off x="6248520" y="2057400"/>
            <a:ext cx="27432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Bee Line Formation” when seated means: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Legs crossed, crisscross applesauc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Sitting tal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Hands on lap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Level Zero, mouths are close and everyone is silent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Keep your hands, feet, and other items to yourself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 Zero: Sil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 One: Soft conversation with the person directly in front of you or to the side of you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 Two: Inside voi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 Three: Outside, play voice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al: The Meadows hallways will be safe, orderly, clean, and quiet environments where all students demonstrate responsible, appropriate behavior and are ready to interact with others respectfully and courteousl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tudents will 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Line up two feet on the red line (two on red) standing tall, mouths closed and silen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main silent at all times while in the hal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alk on the right side of the hal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alk in a single file, facing forward, at a designated pac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Maintain an arm distance from student in front of the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alk with their hands behind their back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Walk with their backpacks on both shoulders, or pulling it behind them with one han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old their lunch bags by their sid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ug their books to their ches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ave a hall pass when not accompanied by an adult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ur Goal: The Meadows Cafeteria  will be a safe, orderly, and clean environment where all students demonstrate responsible, appropriate behavior and are ready to interact with others respectfully and courteously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xpectation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Students will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Enter the cafeteria in Bee Line formatio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f not buying lunch, walk directly to their assigned table and take the first available seat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Not be allowed to skip or save seat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Begin filling the table starting at the far left-side of the table from 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Form two lines to go single file through the lunch line keeping hands and feet to themselve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Get all needed items before sitting dow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Have a level one conversation once seated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Keep all uneaten food and trash on their trays and dispose of their trash and trays in the trash container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8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Return to Level Zero (silent) when directed by teacher and await dismissal instruction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57200" indent="-457200">
              <a:buClr>
                <a:srgbClr val="f0ad00"/>
              </a:buClr>
              <a:buSzPct val="80000"/>
              <a:buFont typeface="Corbe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At 3:05 teachers and students will respond to the first dismissal bell to begin the dismissal process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SzPct val="80000"/>
              <a:buFont typeface="Corbel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Teachers will begin escorting their students into the hallway when all students are prepared to leave. 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SzPct val="80000"/>
              <a:buFont typeface="Corbel"/>
              <a:buAutoNum type="arabicPeriod" startAt="2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Teachers will line students up in the hallway near their classroom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SzPct val="80000"/>
              <a:buFont typeface="Corbel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At 3:10, daycare, bus riders and encore will respond to the second dismissal bell.  (Noisy hallways will not be dismissed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0">
              <a:buNone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457200" indent="-457200">
              <a:buClr>
                <a:srgbClr val="000000"/>
              </a:buClr>
              <a:buSzPct val="80000"/>
              <a:buFont typeface="Corbel"/>
              <a:buAutoNum type="arabicPeriod" startAt="4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At 3:15, car riders will respond to the third dismissal bell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6.   Students will walk quietly in a single file line to their destination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buClr>
                <a:srgbClr val="000000"/>
              </a:buClr>
              <a:buSzPct val="90000"/>
              <a:buFont typeface="Corbe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Walkers – Exit main entrance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buClr>
                <a:srgbClr val="000000"/>
              </a:buClr>
              <a:buSzPct val="90000"/>
              <a:buFont typeface="Corbe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Encore – Exit and go to the music hall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buClr>
                <a:srgbClr val="000000"/>
              </a:buClr>
              <a:buSzPct val="90000"/>
              <a:buFont typeface="Corbe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Car Riders – South exit of building (700 hall/Gym exit)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buClr>
                <a:srgbClr val="000000"/>
              </a:buClr>
              <a:buSzPct val="90000"/>
              <a:buFont typeface="Corbel"/>
              <a:buAutoNum type="alphaL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Day Care bus riders – Cafeteria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552600" indent="-343080"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7.   All non-duty teachers will clear their hallway and help in the main hall until all students have exited the building. 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000000"/>
              </a:buClr>
              <a:buSzPct val="80000"/>
              <a:buFont typeface="Corbel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8.   All teachers must be in the hallway everyday. </a:t>
            </a:r>
            <a:r>
              <a:rPr b="1" lang="en-US" sz="2000" spc="-1" strike="noStrike">
                <a:solidFill>
                  <a:srgbClr val="000000"/>
                </a:solidFill>
                <a:latin typeface="Corbel"/>
                <a:ea typeface="Times New Roman"/>
              </a:rPr>
              <a:t>No Exceptions No Excuses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43080" indent="-343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Rectangle 2" descr=""/>
          <p:cNvPicPr/>
          <p:nvPr/>
        </p:nvPicPr>
        <p:blipFill>
          <a:blip r:embed="rId1"/>
          <a:stretch/>
        </p:blipFill>
        <p:spPr>
          <a:xfrm>
            <a:off x="189000" y="146160"/>
            <a:ext cx="8504280" cy="12618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oals of Supervi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0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instruct/educate students about expectations in a caring (but firm) wa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prevent misbehavior and to connect with stud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teract positively with students as they pass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Rectangle 2" descr=""/>
          <p:cNvPicPr/>
          <p:nvPr/>
        </p:nvPicPr>
        <p:blipFill>
          <a:blip r:embed="rId1"/>
          <a:stretch/>
        </p:blipFill>
        <p:spPr>
          <a:xfrm>
            <a:off x="255600" y="146160"/>
            <a:ext cx="8437680" cy="1261800"/>
          </a:xfrm>
          <a:prstGeom prst="rect">
            <a:avLst/>
          </a:prstGeom>
          <a:ln w="0">
            <a:noFill/>
          </a:ln>
        </p:spPr>
      </p:pic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rbel"/>
              </a:rPr>
              <a:t>I realize that  ALL MEANS ALL. Therefore, I commit to whole heartedly support all expectations set out by the Next Level Positive Behavior Supports Initiative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always supervise in an alert, proactive w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circulate within a group of students, interacting with them in a positive and constructive way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constantly scan an area for potential problems, diffusing them before they arise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motivate students to do their best and monitor their behavior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451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rbel"/>
              </a:rPr>
              <a:t>I will always conduct myself as a true professional.</a:t>
            </a: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349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Signature  ________________________________                            Date  ________________________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pic>
        <p:nvPicPr>
          <p:cNvPr id="311" name="Diagram 19" descr=""/>
          <p:cNvPicPr/>
          <p:nvPr/>
        </p:nvPicPr>
        <p:blipFill>
          <a:blip r:embed="rId2"/>
          <a:stretch/>
        </p:blipFill>
        <p:spPr>
          <a:xfrm>
            <a:off x="1494000" y="1822320"/>
            <a:ext cx="3090600" cy="1590840"/>
          </a:xfrm>
          <a:prstGeom prst="rect">
            <a:avLst/>
          </a:prstGeom>
          <a:ln w="0">
            <a:noFill/>
          </a:ln>
        </p:spPr>
      </p:pic>
      <p:pic>
        <p:nvPicPr>
          <p:cNvPr id="312" name="Diagram 18" descr=""/>
          <p:cNvPicPr/>
          <p:nvPr/>
        </p:nvPicPr>
        <p:blipFill>
          <a:blip r:embed="rId3"/>
          <a:stretch/>
        </p:blipFill>
        <p:spPr>
          <a:xfrm>
            <a:off x="658800" y="3193920"/>
            <a:ext cx="3084480" cy="1517760"/>
          </a:xfrm>
          <a:prstGeom prst="rect">
            <a:avLst/>
          </a:prstGeom>
          <a:ln w="0">
            <a:noFill/>
          </a:ln>
        </p:spPr>
      </p:pic>
      <p:pic>
        <p:nvPicPr>
          <p:cNvPr id="313" name="Diagram 16" descr=""/>
          <p:cNvPicPr/>
          <p:nvPr/>
        </p:nvPicPr>
        <p:blipFill>
          <a:blip r:embed="rId4"/>
          <a:stretch/>
        </p:blipFill>
        <p:spPr>
          <a:xfrm>
            <a:off x="122400" y="4645080"/>
            <a:ext cx="2974680" cy="1365120"/>
          </a:xfrm>
          <a:prstGeom prst="rect">
            <a:avLst/>
          </a:prstGeom>
          <a:ln w="0">
            <a:noFill/>
          </a:ln>
        </p:spPr>
      </p:pic>
      <p:pic>
        <p:nvPicPr>
          <p:cNvPr id="314" name="Content Placeholder 3" descr=""/>
          <p:cNvPicPr/>
          <p:nvPr/>
        </p:nvPicPr>
        <p:blipFill>
          <a:blip r:embed="rId5"/>
          <a:stretch/>
        </p:blipFill>
        <p:spPr>
          <a:xfrm>
            <a:off x="2408400" y="2030400"/>
            <a:ext cx="6643440" cy="4241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Question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lnSpc>
                <a:spcPct val="83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lba Super"/>
              </a:rPr>
              <a:t>Honeybees</a:t>
            </a: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- Those students that come to class prepared, excited and willing with their purpose in mind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lba Super"/>
              </a:rPr>
              <a:t>Worker Bees </a:t>
            </a: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-Those students who attend regularly but who are less involved and are unsure of their purpos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000000"/>
                </a:solidFill>
                <a:latin typeface="Alba Super"/>
              </a:rPr>
              <a:t>Busy Bees </a:t>
            </a:r>
            <a:r>
              <a:rPr b="0" lang="en-GB" sz="2700" spc="-1" strike="noStrike">
                <a:solidFill>
                  <a:srgbClr val="000000"/>
                </a:solidFill>
                <a:latin typeface="Verdana"/>
              </a:rPr>
              <a:t>-T</a:t>
            </a:r>
            <a:r>
              <a:rPr b="0" lang="en-GB" sz="2700" spc="-1" strike="noStrike">
                <a:solidFill>
                  <a:srgbClr val="000000"/>
                </a:solidFill>
                <a:latin typeface="Corbel"/>
              </a:rPr>
              <a:t>hose students who would rather be anywhere but here.</a:t>
            </a: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255600" y="152280"/>
            <a:ext cx="8437680" cy="12621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verybody needs to stay in the hive no matter how thick the honey is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ven though you have your own honeycomb, ALL bees are your responsibility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veryone cares for each bee no matter how often you get stung!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en a bee needs repeated direction, you must maintain a respectful attitud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ome bees may have “large stingers” and may require more of your time and care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f a bee should have an accident, you must give “bee”-nevolence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219240" y="152280"/>
            <a:ext cx="8474040" cy="1262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ll beehive duties “START ON TIME”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ll designated areas remain well organized to promote a safe, civil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nd productive environment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All bees are greeted pleasantly throughout the day.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Title 1" descr=""/>
          <p:cNvPicPr/>
          <p:nvPr/>
        </p:nvPicPr>
        <p:blipFill>
          <a:blip r:embed="rId1"/>
          <a:stretch/>
        </p:blipFill>
        <p:spPr>
          <a:xfrm>
            <a:off x="249120" y="66600"/>
            <a:ext cx="8444160" cy="13478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3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Structure our environment for succ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Establish clear and firm limi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Teach Responsibilit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Be Positiv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Communicate high expectations of succe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4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rbel"/>
              </a:rPr>
              <a:t>Allow flexibility for classroom teache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A more positive or invitational climat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A safer campus environment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Increased staff consistency regarding behavioral    expecta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A systematic approach for gathering and collecting data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Effective use of data to drive the decision-making proce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3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rbel"/>
              </a:rPr>
              <a:t>Improvement in academic performanc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Title 1" descr=""/>
          <p:cNvPicPr/>
          <p:nvPr/>
        </p:nvPicPr>
        <p:blipFill>
          <a:blip r:embed="rId1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significant decrease in office referral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change in office referrals that reflects a decrease in serious misbehavior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ncrease in staff satisfac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n increase in staff retentio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process that allows a campus to work more effectively together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written curriculum of responsibility to include clear and specific behavioral expectations for all common area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2:27:37Z</dcterms:created>
  <dc:creator>tmonk</dc:creator>
  <dc:description/>
  <dc:language>en-US</dc:language>
  <cp:lastModifiedBy>kbrad1963</cp:lastModifiedBy>
  <dcterms:modified xsi:type="dcterms:W3CDTF">2009-08-16T16:35:29Z</dcterms:modified>
  <cp:revision>48</cp:revision>
  <dc:subject/>
  <dc:title>Buzzing our Way to Exemplary</dc:title>
</cp:coreProperties>
</file>